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EBD-A091-4583-9102-F03EA92D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B76-EECD-4032-AE3E-43F13A41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4C8-8091-4E0F-87DD-6E980F51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8C2-B9C8-4793-B943-74BA6CF2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B614-4881-43B3-97F2-076CE537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61FF-93E6-4BD1-AC8B-FCCFCB58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BBC7-03C2-4141-B11C-B5BB66AE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8A29-6007-49C2-83A0-27C03688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CE79-4465-4AC5-B8DD-B250D00A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6BAD-B6A4-412C-A4D5-57872137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FE57-DB6C-4A9D-8846-3DC14093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639-3011-486A-9E5B-25AD39FD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75BF-E61B-43F2-B89E-39B5B9AC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4D63-8232-42BE-BF94-BB6B7F25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02BB-2DE0-4B93-8168-57C14C50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F338-9746-4E2E-9518-9846A868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5051-9A23-4A6C-B48B-4608238F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F7D-79B4-480E-9A65-29ABEEBA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9B7-E616-4EC4-95AF-D0110956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4F0-95AB-448C-BDFB-ABD4E98C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89F-56E3-4498-A77E-FB14A2A8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6F5-FFBC-4DB5-92C5-881BD135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016A-ABD3-4B4F-9632-E71A9E4F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E8E-2B94-43B8-B0BF-FBFDBAFE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E40E-BFA7-473C-B64E-95B1B8D832A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309F-3B53-4CFD-8771-E31915A2234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Quick Call the Fire Department! She shouted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ick, call the fire department!” She shout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reewrit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about anyt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Vocabulary Sheet with a partner you haven’t worked with bef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ch mov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short qui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8:43Z</dcterms:created>
  <dc:creator>rebecca</dc:creator>
  <dc:description/>
  <dc:language>en-US</dc:language>
  <cp:lastModifiedBy>rebecca</cp:lastModifiedBy>
  <dcterms:modified xsi:type="dcterms:W3CDTF">2009-03-03T21:04:23Z</dcterms:modified>
  <cp:revision>2</cp:revision>
  <dc:subject/>
  <dc:title>DOL</dc:title>
</cp:coreProperties>
</file>